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65A-0144-446E-BC45-898F6BFF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49C-6733-4E49-8E75-E83D6E6A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456-BA21-45F6-9611-242B1EE1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E18-57E5-4FC1-8C7A-21D8DB37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4904-F006-4553-9784-46C60DB9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32EB-107D-4F4E-BC22-818DC475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F8FA-482E-47EA-A597-067295D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6580-150A-4B7C-8555-4FC9B7C5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5552-651C-4A76-9B8A-19883B10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6B3C-4D13-4DAB-9805-C6F47929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808A-1178-4456-9FAF-44442E1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F8D-C80F-4107-A44C-66228FBC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A606-934E-4530-87C2-0A18DC07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11EB-8CDE-44DB-B791-2F7FCB48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8FFC-E3FF-4EC6-AFA4-F73C2B21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DC44-0EA8-4709-BE6C-47F4CF9F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2CFF-0234-4F16-8289-D7B6B857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667-B5C9-42D7-8969-ADA1BD40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828-BF64-49F4-9256-3F891CD2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CF6-7C12-4FF7-927E-32A449CA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A17-7A69-4B79-A732-72CC7FB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5DF-8374-43B3-ADE1-02A507F9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FC7-EE62-4F23-9C5D-6D6F3B7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02F-BEED-4EF8-98FA-C426CF6D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2191-3D8D-4765-9BA0-E6036B11A2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B74-6827-4598-89DF-D515D21EFC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66"/>
                </a:solidFill>
                <a:latin typeface="Arial Black"/>
              </a:rPr>
              <a:t>ОЦЕНКА ЗАВИСИМОСТИ СПРОСА НА ПЕРЕВОЗКИ ОТ УРОВНЯ КАЧЕСТВА ТРАНСПОРТНОГО ОБСЛУЖИВАНИЯ ГРУЗОВЛАДЕЛЬЦЕВ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4680" y="3430440"/>
            <a:ext cx="622296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Юрий Игоревич, д.э.н., профессор кафедры «Экономика и управление на транспорте» Московского государственного университета путей сообщения (МИ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месячная динамика Индекса качеств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2"/>
          <a:stretch/>
        </p:blipFill>
        <p:spPr>
          <a:xfrm>
            <a:off x="785880" y="1928880"/>
            <a:ext cx="771516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намика удовлетворенности клиентов уровнем ставок за перевозку груз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Диаграмма 5" descr=""/>
          <p:cNvPicPr/>
          <p:nvPr/>
        </p:nvPicPr>
        <p:blipFill>
          <a:blip r:embed="rId1"/>
          <a:stretch/>
        </p:blipFill>
        <p:spPr>
          <a:xfrm>
            <a:off x="714240" y="1857240"/>
            <a:ext cx="7786800" cy="407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Общие сведения о методике расчет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1760" y="1905120"/>
            <a:ext cx="4452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дальнейшего анализа из всех показателей, входящих в Индекс, нами были выделены пять важнейших, оказывающих, на наш взгляд, решающее значение на выбор клиентом транспортной компан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блюдение сроков достав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хранность гру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ревозка «от двери до двери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лнота удовлетворения сп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ача вагонов по графи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ный показ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чества рассчитан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2143080" y="5572080"/>
                <a:ext cx="1028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Б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2" name="TextBox 9" descr=""/>
          <p:cNvPicPr/>
          <p:nvPr/>
        </p:nvPicPr>
        <p:blipFill>
          <a:blip r:embed="rId1"/>
          <a:stretch/>
        </p:blipFill>
        <p:spPr>
          <a:xfrm>
            <a:off x="5443560" y="2182680"/>
            <a:ext cx="3279600" cy="40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анные для расчета эластичности спро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909720" y="1905120"/>
          <a:ext cx="7400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905120"/>
                    <a:ext cx="7400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Picture 6" descr="miit"/>
          <p:cNvPicPr/>
          <p:nvPr/>
        </p:nvPicPr>
        <p:blipFill>
          <a:blip r:embed="rId3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уровня качества транспортного обслуживания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9" name="Рисунок 21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4032360" cy="40273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62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Зависимость спроса на перевозки от степени удовлетворенности клиентов уровнем тарифов </a:t>
            </a: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P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3" name="Рисунок 21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028760" cy="4038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148360" y="3292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ен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Q=0,53Р+97,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miit"/>
          <p:cNvPicPr/>
          <p:nvPr/>
        </p:nvPicPr>
        <p:blipFill>
          <a:blip r:embed="rId2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Сфера применения результатов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портные компании (прогнозирование реакции рынка, оценка эффективности проводимых мероприятий, выбор стратегии роста клиентоориентирова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ы государственного регулирования (индикатор развития конкуренции на рынке грузовых перевоз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miit"/>
          <p:cNvPicPr/>
          <p:nvPr/>
        </p:nvPicPr>
        <p:blipFill>
          <a:blip r:embed="rId1"/>
          <a:stretch/>
        </p:blipFill>
        <p:spPr>
          <a:xfrm>
            <a:off x="7099200" y="5892840"/>
            <a:ext cx="204480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7:03:46Z</dcterms:created>
  <dc:creator>Юрий Соколов</dc:creator>
  <dc:description/>
  <dc:language>en-US</dc:language>
  <cp:lastModifiedBy>Evgeny</cp:lastModifiedBy>
  <dcterms:modified xsi:type="dcterms:W3CDTF">2014-11-12T06:40:07Z</dcterms:modified>
  <cp:revision>6</cp:revision>
  <dc:subject/>
  <dc:title>Оценка зависимости спроса на перевозки от уровня качества транспортного обслуживания грузовладельцев</dc:title>
</cp:coreProperties>
</file>